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1E49-7503-482F-BA77-4B8F4206F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8ABB-6C56-4A8B-999E-54ADDC1E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F252-FC11-42B6-B9B4-935D34241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53DC-18FF-40CE-9A1D-42C1B5DA3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A6AA-E7B4-4CC9-8A68-EBD54B78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3629-EFCF-4EE3-AE0F-C5A17922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9CA0-0B7E-4BDD-9218-E21F86B9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B2F5-61AF-4B44-90CB-CD5D5D7C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D23B-BE40-435C-8D30-4107477E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EDD2-3447-455E-ABFB-E1E2FE34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A59E-9728-4FBA-9EB0-D2E1B77B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BBE0-C643-4BC5-A37D-765D8BDC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AA02EE-02FC-40D0-A4DD-E43E131181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1F1023-F7DD-47DF-BE01-47579822CB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START UP – Top Page 50 – Typ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reate a word web around the following three word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eam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rti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mend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12 though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874880" y="1600200"/>
            <a:ext cx="7269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intro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Separate clause/paragraph of a legal docu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ch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Diagram 4" descr=""/>
          <p:cNvPicPr/>
          <p:nvPr/>
        </p:nvPicPr>
        <p:blipFill>
          <a:blip r:embed="rId2"/>
          <a:stretch/>
        </p:blipFill>
        <p:spPr>
          <a:xfrm>
            <a:off x="2114640" y="2786040"/>
            <a:ext cx="6675480" cy="4548240"/>
          </a:xfrm>
          <a:prstGeom prst="rect">
            <a:avLst/>
          </a:prstGeom>
          <a:ln w="0">
            <a:noFill/>
          </a:ln>
        </p:spPr>
      </p:pic>
      <p:sp>
        <p:nvSpPr>
          <p:cNvPr id="45" name="Straight Connector 7"/>
          <p:cNvSpPr/>
          <p:nvPr/>
        </p:nvSpPr>
        <p:spPr>
          <a:xfrm flipH="1" flipV="1">
            <a:off x="2833560" y="4584240"/>
            <a:ext cx="735120" cy="2415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V="1">
            <a:off x="4305240" y="3676320"/>
            <a:ext cx="0" cy="6332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10"/>
          <p:cNvSpPr/>
          <p:nvPr/>
        </p:nvSpPr>
        <p:spPr>
          <a:xfrm flipH="1">
            <a:off x="2985840" y="5739840"/>
            <a:ext cx="734760" cy="3855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12"/>
          <p:cNvSpPr/>
          <p:nvPr/>
        </p:nvSpPr>
        <p:spPr>
          <a:xfrm flipH="1">
            <a:off x="6014880" y="3676680"/>
            <a:ext cx="268560" cy="9079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16"/>
          <p:cNvSpPr/>
          <p:nvPr/>
        </p:nvSpPr>
        <p:spPr>
          <a:xfrm flipV="1">
            <a:off x="4692600" y="5808600"/>
            <a:ext cx="0" cy="6350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17"/>
          <p:cNvSpPr/>
          <p:nvPr/>
        </p:nvSpPr>
        <p:spPr>
          <a:xfrm flipH="1" flipV="1">
            <a:off x="6014880" y="5906880"/>
            <a:ext cx="268560" cy="6332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9"/>
          <p:cNvSpPr/>
          <p:nvPr/>
        </p:nvSpPr>
        <p:spPr>
          <a:xfrm flipH="1">
            <a:off x="8092800" y="3408480"/>
            <a:ext cx="641160" cy="7221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21"/>
          <p:cNvSpPr/>
          <p:nvPr/>
        </p:nvSpPr>
        <p:spPr>
          <a:xfrm flipH="1" flipV="1">
            <a:off x="7959240" y="5740200"/>
            <a:ext cx="266760" cy="6332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2"/>
          <p:cNvSpPr/>
          <p:nvPr/>
        </p:nvSpPr>
        <p:spPr>
          <a:xfrm flipH="1" flipV="1">
            <a:off x="8467200" y="5259240"/>
            <a:ext cx="476280" cy="5493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7205040" y="3408480"/>
            <a:ext cx="245880" cy="514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7"/>
          <p:cNvSpPr/>
          <p:nvPr/>
        </p:nvSpPr>
        <p:spPr>
          <a:xfrm flipH="1">
            <a:off x="6808680" y="5651640"/>
            <a:ext cx="642960" cy="7221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8"/>
          <p:cNvSpPr/>
          <p:nvPr/>
        </p:nvSpPr>
        <p:spPr>
          <a:xfrm>
            <a:off x="5373720" y="4130640"/>
            <a:ext cx="0" cy="8161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9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9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PAGE 51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Guiding Principles of our Constit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1. Federalis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power is divided between a central government and a smaller regional govern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4313160" y="3224160"/>
            <a:ext cx="288936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448920"/>
            <a:ext cx="8229600" cy="56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2. popular sovereignt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the belief that the people are the ultimate source of authority of the govern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the people…”  - Pream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House of Representatives shall b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sed of members chosen…by t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…”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Article I, Section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449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3. separation of powe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the idea that the powers of government should be split between two or more independent branches to prevent any one person or group from gaining too much power.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(checks &amp; balanc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“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 [the president] shall have Power…to make Treaties, provided two thirds of the Senators present concur.” 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        – Article II, Section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2664000" y="3051000"/>
            <a:ext cx="3809880" cy="22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517680" y="-360"/>
            <a:ext cx="8229600" cy="56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4. Individual right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The rights and liberties that can be claimed by individuals by virtue of being human. Such rights are also sometimes referred to as natural or human right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rial of all Crimes, except in Cases of Impeachment, shall be by Jury.”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–Article III, Section 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703440" y="3859200"/>
            <a:ext cx="3835080" cy="253836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65" name="Picture 4" descr=""/>
          <p:cNvPicPr/>
          <p:nvPr/>
        </p:nvPicPr>
        <p:blipFill>
          <a:blip r:embed="rId3"/>
          <a:stretch/>
        </p:blipFill>
        <p:spPr>
          <a:xfrm>
            <a:off x="5656320" y="3514680"/>
            <a:ext cx="2738520" cy="311940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80808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0" y="449280"/>
            <a:ext cx="6345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ink back to Monday and th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ase of Dwight Lopez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re else in our Constitution are our individual rights protect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Bill of Righ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&amp; 1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mend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…the right t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u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no person can be deprived of lif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berty, or property without a fai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gal procedur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6419880" y="449280"/>
            <a:ext cx="207648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TextBox 4"/>
          <p:cNvSpPr/>
          <p:nvPr/>
        </p:nvSpPr>
        <p:spPr>
          <a:xfrm>
            <a:off x="6419880" y="3616200"/>
            <a:ext cx="24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asir Esam Ham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3"/>
          <a:stretch/>
        </p:blipFill>
        <p:spPr>
          <a:xfrm>
            <a:off x="6345360" y="4290840"/>
            <a:ext cx="2498760" cy="1427400"/>
          </a:xfrm>
          <a:prstGeom prst="rect">
            <a:avLst/>
          </a:prstGeom>
          <a:ln w="0">
            <a:noFill/>
          </a:ln>
        </p:spPr>
      </p:pic>
      <p:sp>
        <p:nvSpPr>
          <p:cNvPr id="70" name="TextBox 6"/>
          <p:cNvSpPr/>
          <p:nvPr/>
        </p:nvSpPr>
        <p:spPr>
          <a:xfrm>
            <a:off x="6707160" y="5821200"/>
            <a:ext cx="178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nald Rumsfeld Sec. of Defe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1-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495360" y="1378080"/>
            <a:ext cx="538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Hamdi v. Rumsfe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9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276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REFLECTION – Bottom ½ 50 – Type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866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. Based on your understanding of the Constitution,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does the executive branch have the power to suspend a citizen’s civil rights during times of wa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back your opinion with 1 + clause in the constitutio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. Predict what the Supreme Court will decid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. Were you surprised by the outcome? Why or why no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. Were you surprised by my “extra info” of what happened to Hamdi after the trial? Why or why no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and why did the framers distribute power in the Constitu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modern circumstances present challenges to carrying out the original intentions of the Constitu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think the Constitution still works today? Why or why no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23:00:06Z</dcterms:created>
  <dc:creator>Teacher</dc:creator>
  <dc:description/>
  <dc:language>en-US</dc:language>
  <cp:lastModifiedBy>Teacher</cp:lastModifiedBy>
  <dcterms:modified xsi:type="dcterms:W3CDTF">2011-10-19T23:41:36Z</dcterms:modified>
  <cp:revision>4</cp:revision>
  <dc:subject/>
  <dc:title>Slide 1</dc:title>
</cp:coreProperties>
</file>